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63DE-27EE-4BD8-AB8A-D9D814B6E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d a hard time thinking of something interactive for this lesson. Maybe we show them an example in the catalog or article database where one term (heart attack) is typed in but the more useful search term ends up being a different subject term (myocardial infarction)? I don</a:t>
            </a:r>
            <a:r>
              <a:rPr b="0" lang="ja-JP" sz="1200" spc="-1" strike="noStrike">
                <a:solidFill>
                  <a:srgbClr val="000000"/>
                </a:solidFill>
                <a:latin typeface="Calibri"/>
              </a:rPr>
              <a:t>’</a:t>
            </a:r>
            <a:r>
              <a:rPr b="0" lang="en-US" sz="1200" spc="-1" strike="noStrike">
                <a:solidFill>
                  <a:srgbClr val="000000"/>
                </a:solidFill>
                <a:latin typeface="Calibri"/>
              </a:rPr>
              <a:t>t know.</a:t>
            </a: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461E-8021-4B74-8A05-D25F5646C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1E14-C610-4E1E-96A6-6CA2CB235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402C9-CE62-4123-A273-1437BFE63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388C-7109-4DFB-9340-08437E09B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B251C-BD99-4670-B3B8-D6E6A6CD9D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BF250-015B-48A5-B7BE-F1721876E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2C9EA4-0A02-414D-8603-1DF15CC19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C90D2-0E6D-400E-A2A1-4EEE4EA9D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93A79F-798F-4959-B23C-6E943171C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1ADF5-6314-48DF-A8FF-AE4FE1112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D8F0A4-9981-4702-A890-11CFED222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F7E62-96B2-4BDE-AF25-850B7F3D72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52C67E-2E41-42F3-AC95-1F586F5435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D48667-2665-45E9-A05C-66C8964327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B7DF1-E2A3-42F4-AA63-F8E811520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A774A-6909-4489-BBF7-8024E55018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27876-BB10-4AA6-B571-14B8105E0B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0FE474-F0A5-4FB1-A842-970336155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D4766-829F-4EB1-AA09-C563932260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E45C36-6769-4BE1-B070-18D5F91FF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704AC-E728-4253-85FA-1F71E9869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A89DF-5F19-4751-9965-CED4EEC21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5ACF6-3A92-4D40-AB4F-4F9B00D464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149B86-72E8-41B8-A51F-5AC2A9D83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ABDC5D-B7AF-4A8A-A46F-708689BB3A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A2BFF-E876-4A6F-8815-B4720D204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79FB3F-04E5-4FBF-A355-C1C969B454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15D978-B45B-4151-B16B-CEA596C54E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FE6B7-AFC4-4B67-BC54-A58668F12B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6FF39-64B4-4DF2-8282-E53C7274EC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DD036-6A75-4608-954F-8C6DC9049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E4D53-17A4-4C06-8411-906BD5D30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FF0CE-1522-48AD-9A0D-88018836D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97D1D-C54C-463A-8660-8E691BF6E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D5F9F-07F5-46CB-8AB1-F03073EE86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491D3-3792-4CDE-9400-0DD5532EA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502EF-1DC4-434C-A26C-6860DFA21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1697A3-2F20-4789-8746-80B8409609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04FB76-BC16-4FC1-A677-AA6CC0402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1FB93B-A4EE-45E6-BB19-7402CB83CD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2A60D-F526-4461-8469-C4B8A29F9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FA280-47FA-4A79-ADB8-B103F2354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06CF1-16C8-4C20-8703-7B846F4E1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DD8A4-1D88-4346-8A21-CBA124D55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8700A-86C7-4C20-A382-D46806C2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949F4-E264-4B12-873B-5739D92EE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6CA6-DA00-481B-8E30-40EEEFD75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107F5-C35D-4A75-A276-8048323A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D270-E24D-4214-AA7C-C2EFFB107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77628-551E-4FAB-A367-9AC7CD6E6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58A0E-B294-4055-9447-EA5115ADD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77F85-ED48-4229-B631-86F51B673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1DD2-E98E-4D32-A60A-22D5EC65B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79C2E-94AE-4A9A-9C4A-06A79A17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13FEBD-3A50-4903-A925-B7AB6B350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BF6B-666D-4759-AE54-49CFEC0A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CB6C1-C6E1-4180-9DD1-1A29FD413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03237-3EE7-4784-BBF7-ACDF857D7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AC042-105E-47DD-949E-D612040A3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F2A3B-E7F4-4C9D-AE7E-0B3B11BD9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EF488-C4DD-4E78-AE6B-81C35341C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E3735-7D8F-4AE0-B8CC-F35E72815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BEBD4-51F8-4D92-9A29-629A86A9F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F8E8F-E786-4D2E-B150-DDCBD09FB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FFE8F-26F9-4BE9-9243-38E584ACA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C6A6A1-7266-4C07-A14C-6E3157019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0F445-1FF9-4A75-8451-95F35091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ABEF39-A842-4A58-A71E-D80333957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7FEB25-AE78-4675-9AE0-21C548B6B5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38CA4-D992-4D80-A50A-B08B33982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DE8CF-C743-4EFB-B04A-10C8DFEEF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0715F-4287-4340-A0C0-6303979B1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8EED2-EDA5-40C3-8233-13BD1B238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7C847-E2A9-4979-9F5A-77C6687A11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1B3F7-ABC2-466B-A4F0-6E1F1A800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48079-D6FC-4BAC-99A1-4F5403760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81CBB-80E5-4F3D-A260-383E62B59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5CA9-2E7D-4D18-A052-A0D9BA0B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05D33-00BB-4598-A9B2-8648172BF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D2C068-9E91-4ADC-B639-D52FB9E671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0777E-BB4E-4F1B-B89E-2671F248A8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4E30B6-F9DC-4D58-B17C-C15EA0369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2B272-9477-4F0D-A37B-3784E719D2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D1787-5F8E-4B1A-988D-D45A07636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32D08-D26C-4BCF-9CFB-E51CE6E61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E523A-D9BB-4F39-8FBF-7BEC7ED2E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EC9C3-EE9D-4837-853F-467C688F3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7EB92-1EC6-405F-813B-26CB47B77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9D76-0EAD-473D-B147-1BC3A76F8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BEE21-E9FC-4581-8706-94508A8C0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5CD90-7ECB-4AD6-80E9-DF0889BD3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0357C-3BEC-44E4-9232-AA28D0875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E5503C-F050-4790-A1C6-BD3846BD1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3D687-45CB-4E82-8EF0-463372D8CF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BBB94B-23C3-4E89-9E50-C17AEBB51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00E1F-9A70-4C54-BD42-8DAAB52CB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9B7381-78CA-4F89-9B2D-5E19F7622F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A99B3-C02C-422C-B602-A379D47DF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F29E0-43D9-43E4-860C-D47C03917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0600-1E2E-4074-874D-3546B68E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526A6-2C58-4E5A-BAF9-ECF6466E3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34E1B-D797-4E53-8C42-B47469743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8BF99-4827-4201-A6F5-1E675D68C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9E2FA-E5C9-4EA5-84D1-F51B4C156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260CA8-F8F5-43CF-AD5F-A1B056B56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BC587F-D250-4612-862C-D54C21AD00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A6EF3-29CB-4074-A8D4-DDCCEAB56B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52A4D9-0E79-4B2F-9E39-2AC6624514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49B913-CAED-41C6-9F84-1BDA472E6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B4672-5A8B-4216-84CD-9C0628BB471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B695-FABC-43E0-A2FC-2A6DB9959A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CA4C-27E3-4BD0-8556-7065CD90D9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D4EC-8E41-4AEB-BB20-B2D946C53A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B215-37E6-441C-9F17-D5D83D5C23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D80A-BEE1-421B-B813-564CBFBD5A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CBB3-C298-4B44-B1E4-85C869EF96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82DE-0191-4DA5-8630-7F10CC25F6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D1F3-9FCF-4456-A9FA-84B0A420C6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4E3B-473F-4121-913F-CA0189BD3A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 Heading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Objective:  Students will understand that both books and articles are assigned words to describe their contents.  These terms are referred to as subject heading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
          <p:cNvSpPr/>
          <p:nvPr/>
        </p:nvSpPr>
        <p:spPr>
          <a:xfrm>
            <a:off x="685800" y="685800"/>
            <a:ext cx="815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n look at the item record to find more information about the book or article, including the subjects used to describe what the article/book is 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89" name="Picture 4" descr="SIRSTattoos.jpg"/>
          <p:cNvPicPr/>
          <p:nvPr/>
        </p:nvPicPr>
        <p:blipFill>
          <a:blip r:embed="rId1"/>
          <a:stretch/>
        </p:blipFill>
        <p:spPr>
          <a:xfrm>
            <a:off x="1219320" y="3124080"/>
            <a:ext cx="6991200" cy="32385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can use the subject headings found in </a:t>
            </a:r>
            <a:r>
              <a:rPr b="0" lang="en-US" sz="4000" spc="-1" strike="noStrike">
                <a:solidFill>
                  <a:srgbClr val="e46c0a"/>
                </a:solidFill>
                <a:latin typeface="Calibri"/>
              </a:rPr>
              <a:t>two</a:t>
            </a:r>
            <a:r>
              <a:rPr b="0" lang="en-US" sz="4000" spc="-1" strike="noStrike">
                <a:solidFill>
                  <a:srgbClr val="000000"/>
                </a:solidFill>
                <a:latin typeface="Calibri"/>
              </a:rPr>
              <a:t> different ways.</a:t>
            </a:r>
            <a:endParaRPr b="0" lang="en-US" sz="4000" spc="-1" strike="noStrike">
              <a:solidFill>
                <a:srgbClr val="000000"/>
              </a:solidFill>
              <a:latin typeface="Calibri"/>
            </a:endParaRPr>
          </a:p>
        </p:txBody>
      </p:sp>
      <p:sp>
        <p:nvSpPr>
          <p:cNvPr id="491" name=""/>
          <p:cNvSpPr txBox="1"/>
          <p:nvPr/>
        </p:nvSpPr>
        <p:spPr>
          <a:xfrm>
            <a:off x="457200" y="1904760"/>
            <a:ext cx="8229600" cy="2514600"/>
          </a:xfrm>
          <a:prstGeom prst="rect">
            <a:avLst/>
          </a:prstGeom>
          <a:noFill/>
          <a:ln w="0">
            <a:noFill/>
          </a:ln>
        </p:spPr>
        <p:txBody>
          <a:bodyPr anchor="t">
            <a:normAutofit fontScale="88000"/>
          </a:bodyPr>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70c0"/>
                </a:solidFill>
                <a:latin typeface="Calibri"/>
              </a:rPr>
              <a:t>First, </a:t>
            </a:r>
            <a:r>
              <a:rPr b="0" lang="en-US" sz="3200" spc="-1" strike="noStrike">
                <a:solidFill>
                  <a:srgbClr val="000000"/>
                </a:solidFill>
                <a:latin typeface="Calibri"/>
              </a:rPr>
              <a:t>y</a:t>
            </a:r>
            <a:r>
              <a:rPr b="0" lang="en-US" sz="3000" spc="-1" strike="noStrike">
                <a:solidFill>
                  <a:srgbClr val="000000"/>
                </a:solidFill>
                <a:latin typeface="Calibri"/>
              </a:rPr>
              <a:t>ou can use the terms provided to re-execute your search to find more relevant articles.  For example, using the subjects found on the tattoo article record, you might search for </a:t>
            </a:r>
            <a:r>
              <a:rPr b="0" lang="ja-JP" sz="3000" spc="-1" strike="noStrike">
                <a:solidFill>
                  <a:srgbClr val="000000"/>
                </a:solidFill>
                <a:latin typeface="Calibri"/>
              </a:rPr>
              <a:t>“</a:t>
            </a:r>
            <a:r>
              <a:rPr b="0" lang="en-US" sz="3000" spc="-1" strike="noStrike">
                <a:solidFill>
                  <a:srgbClr val="000000"/>
                </a:solidFill>
                <a:latin typeface="Calibri"/>
              </a:rPr>
              <a:t>body image</a:t>
            </a:r>
            <a:r>
              <a:rPr b="0" lang="ja-JP" sz="3000" spc="-1" strike="noStrike">
                <a:solidFill>
                  <a:srgbClr val="000000"/>
                </a:solidFill>
                <a:latin typeface="Calibri"/>
              </a:rPr>
              <a:t>”</a:t>
            </a:r>
            <a:r>
              <a:rPr b="0" lang="en-US" sz="3000" spc="-1" strike="noStrike">
                <a:solidFill>
                  <a:srgbClr val="000000"/>
                </a:solidFill>
                <a:latin typeface="Calibri"/>
              </a:rPr>
              <a:t> AND tattooing. </a:t>
            </a:r>
            <a:endParaRPr b="0" lang="en-US" sz="3000" spc="-1" strike="noStrike">
              <a:solidFill>
                <a:srgbClr val="000000"/>
              </a:solidFill>
              <a:latin typeface="Calibri"/>
            </a:endParaRPr>
          </a:p>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pic>
        <p:nvPicPr>
          <p:cNvPr id="492" name="Picture 1" descr=""/>
          <p:cNvPicPr/>
          <p:nvPr/>
        </p:nvPicPr>
        <p:blipFill>
          <a:blip r:embed="rId1"/>
          <a:stretch/>
        </p:blipFill>
        <p:spPr>
          <a:xfrm>
            <a:off x="1447920" y="4572000"/>
            <a:ext cx="6505560" cy="13716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523880"/>
            <a:ext cx="8229600" cy="4525920"/>
          </a:xfrm>
          <a:prstGeom prst="rect">
            <a:avLst/>
          </a:prstGeom>
          <a:noFill/>
          <a:ln w="0">
            <a:noFill/>
          </a:ln>
        </p:spPr>
        <p:txBody>
          <a:bodyPr anchor="t">
            <a:normAutofit/>
          </a:bodyPr>
          <a:p>
            <a:pPr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Calibri"/>
              </a:rPr>
              <a:t>Or</a:t>
            </a:r>
            <a:r>
              <a:rPr b="0" lang="en-US" sz="3200" spc="-1" strike="noStrike">
                <a:solidFill>
                  <a:srgbClr val="000000"/>
                </a:solidFill>
                <a:latin typeface="Calibri"/>
              </a:rPr>
              <a:t>, you can click on one of the subject links which will bring up all of the articles in that database with that subject.  For example, I might click on the subject </a:t>
            </a:r>
            <a:r>
              <a:rPr b="0" i="1" lang="en-US" sz="3200" spc="-1" strike="noStrike">
                <a:solidFill>
                  <a:srgbClr val="000000"/>
                </a:solidFill>
                <a:latin typeface="Calibri"/>
              </a:rPr>
              <a:t>tattooing</a:t>
            </a:r>
            <a:r>
              <a:rPr b="0" lang="en-US" sz="3200" spc="-1" strike="noStrike">
                <a:solidFill>
                  <a:srgbClr val="000000"/>
                </a:solidFill>
                <a:latin typeface="Calibri"/>
              </a:rPr>
              <a:t>.</a:t>
            </a:r>
            <a:endParaRPr b="0" lang="en-US" sz="3200" spc="-1" strike="noStrike">
              <a:solidFill>
                <a:srgbClr val="000000"/>
              </a:solidFill>
              <a:latin typeface="Calibri"/>
            </a:endParaRPr>
          </a:p>
          <a:p>
            <a:pPr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4" name="Picture 3" descr=""/>
          <p:cNvPicPr/>
          <p:nvPr/>
        </p:nvPicPr>
        <p:blipFill>
          <a:blip r:embed="rId1"/>
          <a:stretch/>
        </p:blipFill>
        <p:spPr>
          <a:xfrm>
            <a:off x="1523880" y="4114800"/>
            <a:ext cx="5819760" cy="11145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1447920" y="1909800"/>
            <a:ext cx="6305400" cy="4495680"/>
          </a:xfrm>
          <a:prstGeom prst="rect">
            <a:avLst/>
          </a:prstGeom>
          <a:ln w="6480">
            <a:solidFill>
              <a:srgbClr val="000000"/>
            </a:solidFill>
            <a:miter/>
          </a:ln>
        </p:spPr>
      </p:pic>
      <p:sp>
        <p:nvSpPr>
          <p:cNvPr id="496" name="TextBox 3"/>
          <p:cNvSpPr/>
          <p:nvPr/>
        </p:nvSpPr>
        <p:spPr>
          <a:xfrm>
            <a:off x="1066680" y="838080"/>
            <a:ext cx="6782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retrieve a listing of articles that have </a:t>
            </a:r>
            <a:r>
              <a:rPr b="0" i="1" lang="en-US" sz="2800" spc="-1" strike="noStrike">
                <a:solidFill>
                  <a:srgbClr val="000000"/>
                </a:solidFill>
                <a:latin typeface="Arial"/>
              </a:rPr>
              <a:t>Tattooing</a:t>
            </a:r>
            <a:r>
              <a:rPr b="0" lang="en-US" sz="2800" spc="-1" strike="noStrike">
                <a:solidFill>
                  <a:srgbClr val="000000"/>
                </a:solidFill>
                <a:latin typeface="Arial"/>
              </a:rPr>
              <a:t> as a su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Keep in mind that catalogs and article databases may use different descriptors for different terms.  One database might use the term </a:t>
            </a:r>
            <a:r>
              <a:rPr b="0" i="1" lang="en-US" sz="3200" spc="-1" strike="noStrike">
                <a:solidFill>
                  <a:srgbClr val="000000"/>
                </a:solidFill>
                <a:latin typeface="Calibri"/>
              </a:rPr>
              <a:t>movie</a:t>
            </a:r>
            <a:r>
              <a:rPr b="0" lang="en-US" sz="3200" spc="-1" strike="noStrike">
                <a:solidFill>
                  <a:srgbClr val="000000"/>
                </a:solidFill>
                <a:latin typeface="Calibri"/>
              </a:rPr>
              <a:t>, while another might use the term </a:t>
            </a:r>
            <a:r>
              <a:rPr b="0" i="1" lang="en-US" sz="3200" spc="-1" strike="noStrike">
                <a:solidFill>
                  <a:srgbClr val="000000"/>
                </a:solidFill>
                <a:latin typeface="Calibri"/>
              </a:rPr>
              <a:t>motion picture</a:t>
            </a:r>
            <a:r>
              <a:rPr b="0" lang="en-US" sz="3200" spc="-1" strike="noStrike">
                <a:solidFill>
                  <a:srgbClr val="000000"/>
                </a:solidFill>
                <a:latin typeface="Calibri"/>
              </a:rPr>
              <a:t>.  To determine which term is used, do a keyword search and look at the subjects lis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499" name=""/>
          <p:cNvSpPr txBox="1"/>
          <p:nvPr/>
        </p:nvSpPr>
        <p:spPr>
          <a:xfrm>
            <a:off x="457200" y="190512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Subject headings are words used to describe books and article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ubject headings can be used to refine your search by suggesting other useful keywor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
          <p:cNvSpPr/>
          <p:nvPr/>
        </p:nvSpPr>
        <p:spPr>
          <a:xfrm>
            <a:off x="685800" y="129528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oks and articles are assigned words to describe their contents.  These words are called </a:t>
            </a:r>
            <a:r>
              <a:rPr b="0" lang="en-US" sz="3600" spc="-1" strike="noStrike">
                <a:solidFill>
                  <a:srgbClr val="e46c0a"/>
                </a:solidFill>
                <a:latin typeface="Calibri"/>
              </a:rPr>
              <a:t>subject headings</a:t>
            </a:r>
            <a:r>
              <a:rPr b="0" lang="en-US" sz="3600" spc="-1" strike="noStrike">
                <a:solidFill>
                  <a:srgbClr val="000000"/>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bject headings can also be known as </a:t>
            </a:r>
            <a:r>
              <a:rPr b="0" lang="en-US" sz="3600" spc="-1" strike="noStrike">
                <a:solidFill>
                  <a:srgbClr val="4f81bd"/>
                </a:solidFill>
                <a:latin typeface="Calibri"/>
              </a:rPr>
              <a:t>descriptors</a:t>
            </a:r>
            <a:r>
              <a:rPr b="0" lang="en-US" sz="3600" spc="-1" strike="noStrike">
                <a:solidFill>
                  <a:srgbClr val="000000"/>
                </a:solidFill>
                <a:latin typeface="Calibri"/>
              </a:rPr>
              <a:t>, </a:t>
            </a:r>
            <a:r>
              <a:rPr b="0" lang="en-US" sz="3600" spc="-1" strike="noStrike">
                <a:solidFill>
                  <a:srgbClr val="7030a0"/>
                </a:solidFill>
                <a:latin typeface="Calibri"/>
              </a:rPr>
              <a:t>controlled vocabulary</a:t>
            </a:r>
            <a:r>
              <a:rPr b="0" lang="en-US" sz="3600" spc="-1" strike="noStrike">
                <a:solidFill>
                  <a:srgbClr val="000000"/>
                </a:solidFill>
                <a:latin typeface="Calibri"/>
              </a:rPr>
              <a:t>, or </a:t>
            </a:r>
            <a:r>
              <a:rPr b="0" lang="en-US" sz="3600" spc="-1" strike="noStrike">
                <a:solidFill>
                  <a:srgbClr val="00b050"/>
                </a:solidFill>
                <a:latin typeface="Calibri"/>
              </a:rPr>
              <a:t>subjects</a:t>
            </a:r>
            <a:r>
              <a:rPr b="0" lang="en-US" sz="3600" spc="-1" strike="noStrike">
                <a:solidFill>
                  <a:srgbClr val="00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914400" y="1371600"/>
            <a:ext cx="7391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terms can be very useful for finding </a:t>
            </a:r>
            <a:r>
              <a:rPr b="0" lang="en-US" sz="3600" spc="-1" strike="noStrike">
                <a:solidFill>
                  <a:srgbClr val="0070c0"/>
                </a:solidFill>
                <a:latin typeface="Calibri"/>
              </a:rPr>
              <a:t>similar </a:t>
            </a:r>
            <a:r>
              <a:rPr b="0" lang="en-US" sz="3600" spc="-1" strike="noStrike">
                <a:solidFill>
                  <a:srgbClr val="000000"/>
                </a:solidFill>
                <a:latin typeface="Calibri"/>
              </a:rPr>
              <a:t>information on your research ques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an help you identify </a:t>
            </a:r>
            <a:r>
              <a:rPr b="0" lang="en-US" sz="3600" spc="-1" strike="noStrike">
                <a:solidFill>
                  <a:srgbClr val="00b050"/>
                </a:solidFill>
                <a:latin typeface="Calibri"/>
              </a:rPr>
              <a:t>other keywords </a:t>
            </a:r>
            <a:r>
              <a:rPr b="0" lang="en-US" sz="3600" spc="-1" strike="noStrike">
                <a:solidFill>
                  <a:srgbClr val="000000"/>
                </a:solidFill>
                <a:latin typeface="Calibri"/>
              </a:rPr>
              <a:t>so you can do a better sear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
          <p:cNvSpPr/>
          <p:nvPr/>
        </p:nvSpPr>
        <p:spPr>
          <a:xfrm>
            <a:off x="838080" y="1447920"/>
            <a:ext cx="73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t</a:t>
            </a:r>
            <a:r>
              <a:rPr b="0" lang="ja-JP" sz="3600" spc="-1" strike="noStrike">
                <a:solidFill>
                  <a:srgbClr val="000000"/>
                </a:solidFill>
                <a:latin typeface="Calibri"/>
              </a:rPr>
              <a:t>’</a:t>
            </a:r>
            <a:r>
              <a:rPr b="0" lang="en-US" sz="3600" spc="-1" strike="noStrike">
                <a:solidFill>
                  <a:srgbClr val="000000"/>
                </a:solidFill>
                <a:latin typeface="Calibri"/>
              </a:rPr>
              <a:t>s look at a catalog record as an example.  Remember the library catalog is used to find books on your top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2" descr="tobacco.jpg"/>
          <p:cNvPicPr/>
          <p:nvPr/>
        </p:nvPicPr>
        <p:blipFill>
          <a:blip r:embed="rId1"/>
          <a:stretch/>
        </p:blipFill>
        <p:spPr>
          <a:xfrm>
            <a:off x="609480" y="785880"/>
            <a:ext cx="8153640" cy="5538600"/>
          </a:xfrm>
          <a:prstGeom prst="rect">
            <a:avLst/>
          </a:prstGeom>
          <a:ln w="15840">
            <a:solidFill>
              <a:srgbClr val="4f81bd"/>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
          <p:cNvSpPr/>
          <p:nvPr/>
        </p:nvSpPr>
        <p:spPr>
          <a:xfrm>
            <a:off x="1143000" y="2286000"/>
            <a:ext cx="754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a:t>
            </a:r>
            <a:r>
              <a:rPr b="0" lang="ja-JP" sz="4400" spc="-1" strike="noStrike">
                <a:solidFill>
                  <a:srgbClr val="000000"/>
                </a:solidFill>
                <a:latin typeface="Calibri"/>
              </a:rPr>
              <a:t>’</a:t>
            </a:r>
            <a:r>
              <a:rPr b="0" lang="en-US" sz="4400" spc="-1" strike="noStrike">
                <a:solidFill>
                  <a:srgbClr val="000000"/>
                </a:solidFill>
                <a:latin typeface="Calibri"/>
              </a:rPr>
              <a:t>s look at a record from an article databas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Smoking.jpg"/>
          <p:cNvPicPr/>
          <p:nvPr/>
        </p:nvPicPr>
        <p:blipFill>
          <a:blip r:embed="rId1"/>
          <a:stretch/>
        </p:blipFill>
        <p:spPr>
          <a:xfrm>
            <a:off x="685800" y="1447920"/>
            <a:ext cx="7662960" cy="405288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
          <p:cNvSpPr/>
          <p:nvPr/>
        </p:nvSpPr>
        <p:spPr>
          <a:xfrm>
            <a:off x="838080" y="83808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use subject headings effectively, it is best to start with a keyword search.  Find a book or article using the keywords from your research question.   </a:t>
            </a:r>
            <a:endParaRPr b="0" lang="en-US" sz="3600" spc="-1" strike="noStrike">
              <a:solidFill>
                <a:srgbClr val="000000"/>
              </a:solidFill>
              <a:latin typeface="Arial"/>
            </a:endParaRPr>
          </a:p>
        </p:txBody>
      </p:sp>
      <p:pic>
        <p:nvPicPr>
          <p:cNvPr id="485" name="Picture 2" descr="Sirs.png"/>
          <p:cNvPicPr/>
          <p:nvPr/>
        </p:nvPicPr>
        <p:blipFill>
          <a:blip r:embed="rId1"/>
          <a:stretch/>
        </p:blipFill>
        <p:spPr>
          <a:xfrm>
            <a:off x="1523880" y="3809880"/>
            <a:ext cx="6521400" cy="246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
          <p:cNvSpPr/>
          <p:nvPr/>
        </p:nvSpPr>
        <p:spPr>
          <a:xfrm>
            <a:off x="685800" y="9144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ok through your list of results to find a book or article which helps answer your research question.</a:t>
            </a:r>
            <a:endParaRPr b="0" lang="en-US" sz="3600" spc="-1" strike="noStrike">
              <a:solidFill>
                <a:srgbClr val="000000"/>
              </a:solidFill>
              <a:latin typeface="Arial"/>
            </a:endParaRPr>
          </a:p>
        </p:txBody>
      </p:sp>
      <p:pic>
        <p:nvPicPr>
          <p:cNvPr id="487" name="Picture 3" descr="SIRSSearchList.jpg"/>
          <p:cNvPicPr/>
          <p:nvPr/>
        </p:nvPicPr>
        <p:blipFill>
          <a:blip r:embed="rId1"/>
          <a:stretch/>
        </p:blipFill>
        <p:spPr>
          <a:xfrm>
            <a:off x="1066680" y="2819520"/>
            <a:ext cx="7156440" cy="322884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20:21:45Z</dcterms:created>
  <dc:creator>Operator</dc:creator>
  <dc:description/>
  <dc:language>en-US</dc:language>
  <cp:lastModifiedBy>Laurel Harris</cp:lastModifiedBy>
  <dcterms:modified xsi:type="dcterms:W3CDTF">2013-01-28T20:48:57Z</dcterms:modified>
  <cp:revision>31</cp:revision>
  <dc:subject/>
  <dc:title>Subjects</dc:title>
</cp:coreProperties>
</file>